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1408-8AFE-40E5-8318-EFDF6685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92FD-770A-43E7-8755-77CAEE9249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217-CF3B-4A6B-8C6E-64A5AEDED6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5B87-7E5C-42AC-9E67-95D0001C4E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EEEE-E032-43E6-A3B9-6FD1518A9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6B12-B102-4F7C-8683-5078295640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871-0733-49FA-8572-CB65F50C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D73-D7EF-4C03-ADAB-5AB0FB87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BF3-D674-49AE-9D71-89F6BC54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B4B-8EC2-4C2A-8BE3-F0F46BD3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F341-5587-4E7F-9739-EB1E0D23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08D3-51F4-430F-815F-51F1CC3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2579-AE28-45EC-9E94-561890F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051C-1179-4862-8110-67A9D36A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E1D-E287-44D6-8B3E-BFC528F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ED54-B65B-4FA5-875C-F3E7B9FB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D4FD-1838-426E-B3D6-1D1012B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178-A956-4511-AACC-3E57421B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E3B-408A-420C-B457-12FE1707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6DBF-EBB6-4B7E-84BD-6F3B324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65F-72A9-4F52-87A9-4AF09E1D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DA62-25A2-4A2C-A26E-B203EC92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4102-23CA-4EA6-BFA4-86C091F7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CB3-2945-4A9D-B7B6-3551702A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623-4DF6-4275-8B9F-98F3755A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187-A5C3-4656-8114-36F89B1D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6ED-FEBD-4567-A547-2E2D6533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C95-FDC5-4073-AD20-B6D0C357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65E-28E0-4A69-B550-B246F03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14F-E197-4831-9AD7-A0D9316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8998-0A18-4E4E-942D-02F385D8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9B4A-39BC-4406-B18B-EAFB192D82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CIVIL RIGH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Supreme Court Case established the Doctrine of “Separate but Equal?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590920" y="2584440"/>
            <a:ext cx="36543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political party was established as a response to Desegrega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2590920" y="2805120"/>
            <a:ext cx="428292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457560" y="228600"/>
            <a:ext cx="98298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Supreme Court Case abolished the Doctrine of “Separate but Equal?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523880" y="2960640"/>
            <a:ext cx="570096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ich State’s Governor opposed desegregation by using the National Guar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4019760" cy="2981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5334120" y="2666880"/>
            <a:ext cx="236196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segregation that occurs by law call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2057400" y="2519280"/>
            <a:ext cx="4794120" cy="359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2-01T13:53:35Z</dcterms:modified>
  <cp:revision>132</cp:revision>
  <dc:subject/>
  <dc:title>D/O: TO EXPLAIN AND IDENTIFY PROBLEMS OF ECONOMICS</dc:title>
</cp:coreProperties>
</file>